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A04-C53C-4515-8949-04EC94AF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11D-A294-4FFC-888B-E593761C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CF7-E4A8-4BF7-B2A8-40662FDD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FA2-8AA6-4E5C-938B-22F426DC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27F-9C14-45BD-A330-5B03BBC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763-772C-456A-BB06-808E1DF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213-4E69-41D9-9AF9-F856A9AC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72C-9F4D-4CF0-B4DD-4F4D036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481-C8CE-4C99-8F70-A89CF10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EEB-74C5-4C0D-8B53-6F2619A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6C1-08BA-433D-AC24-3692264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7BD-E14B-4033-8F53-B60886B7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EF9-C3AE-4D84-AE8B-6F8C4D2F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La fecha es el 21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192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20B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jugadores hay en un equipo de futbol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tos tiempos hay en un partido de futbol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mpatan los equipos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mismo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211464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523880" y="3962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ad! Im so sor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581280" y="4952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29200" y="56498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of the te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44792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team is fantastic. It always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3; en voz al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0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47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6"/>
          <p:cNvCxnSpPr>
            <a:stCxn id="49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9"/>
          <p:cNvCxnSpPr>
            <a:stCxn id="48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2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0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8" name="TextBox 8"/>
          <p:cNvSpPr/>
          <p:nvPr/>
        </p:nvSpPr>
        <p:spPr>
          <a:xfrm>
            <a:off x="6896160" y="49752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4"/>
          <p:cNvCxnSpPr>
            <a:stCxn id="73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7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sports.inquirer.net/files/2014/07/james-rodriguez.jpg"/>
          <p:cNvPicPr/>
          <p:nvPr/>
        </p:nvPicPr>
        <p:blipFill>
          <a:blip r:embed="rId1"/>
          <a:stretch/>
        </p:blipFill>
        <p:spPr>
          <a:xfrm>
            <a:off x="-830160" y="762120"/>
            <a:ext cx="532584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www.experts-du-sport.be/wp-content/uploads/2014/06/neymar.jpg"/>
          <p:cNvPicPr/>
          <p:nvPr/>
        </p:nvPicPr>
        <p:blipFill>
          <a:blip r:embed="rId2"/>
          <a:stretch/>
        </p:blipFill>
        <p:spPr>
          <a:xfrm>
            <a:off x="6477120" y="762120"/>
            <a:ext cx="3808440" cy="3247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e tiene el uniforme del equipo d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6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mb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24382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gent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http://ea-cdn.voxmedia.com/production/sbnation-world-cup-preview-2014/images/teams/group-d/costarica-player-1-51ddeb24.jpg"/>
          <p:cNvPicPr/>
          <p:nvPr/>
        </p:nvPicPr>
        <p:blipFill>
          <a:blip r:embed="rId3"/>
          <a:stretch/>
        </p:blipFill>
        <p:spPr>
          <a:xfrm>
            <a:off x="3809880" y="762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www.footballkitnews.com/wp-content/uploads/2013/11/Lionel-Messi-Argentina-2014-Kit.jpg"/>
          <p:cNvPicPr/>
          <p:nvPr/>
        </p:nvPicPr>
        <p:blipFill>
          <a:blip r:embed="rId4"/>
          <a:stretch/>
        </p:blipFill>
        <p:spPr>
          <a:xfrm>
            <a:off x="1981080" y="762120"/>
            <a:ext cx="2438640" cy="3276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648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sta R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739152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raz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68400" y="447660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 uniforme de Colombia tien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6320" y="495288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l uniforme de Argentina  tiene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76320" y="556272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l uniforme de Costa Rica  ti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76320" y="617220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l uniforme de Brazil  tien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1341756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4-10-21T14:50:40Z</dcterms:modified>
  <cp:revision>47</cp:revision>
  <dc:subject/>
  <dc:title>Me llamo _________        Clase 7 IM La fecha es el 4 de noviembre del 2010</dc:title>
</cp:coreProperties>
</file>